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887-41AC-45ED-8A9E-50BB66A77CA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BA2D-C1CE-4A12-BC18-9D1B988F67B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5405-AFB5-49D7-AC92-CEFBC2CE53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928-05F5-42C1-9333-D5BD8142668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096-5DF9-47EB-BAE5-F8EE9E1C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5E8-D675-4D4F-B92F-ABD9E099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D70-AD9D-4F9F-9EEC-2577A014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811-A604-4A12-8F77-97D25742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774-4E0C-4938-AA1C-BD1D1E7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CBF-248A-4DE9-94C6-F04518C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872-7345-4FC3-B903-FA17B4D0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52A-76D5-4313-9399-396CE730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3DB-B0FD-49F5-BFAD-D9B5D3CB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BC0-EE64-41DB-A352-ABC702B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B34-6C13-4916-B387-6BCD590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1DA-0A15-42BA-86FE-97635F0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3AA6-43F4-49E0-947C-DA6D93B6E97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71800" y="990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95280" y="234144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8120" y="204156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143760" y="2028960"/>
            <a:ext cx="106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72000" y="2021040"/>
            <a:ext cx="121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41148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IR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00400" y="156384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3"/>
          <p:cNvGrpSpPr/>
          <p:nvPr/>
        </p:nvGrpSpPr>
        <p:grpSpPr>
          <a:xfrm>
            <a:off x="1404360" y="4572000"/>
            <a:ext cx="6822720" cy="307080"/>
            <a:chOff x="1404360" y="4572000"/>
            <a:chExt cx="6822720" cy="307080"/>
          </a:xfrm>
        </p:grpSpPr>
        <p:sp>
          <p:nvSpPr>
            <p:cNvPr id="56" name="Rectangle 16"/>
            <p:cNvSpPr/>
            <p:nvPr/>
          </p:nvSpPr>
          <p:spPr>
            <a:xfrm>
              <a:off x="1404360" y="4572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PO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2407680" y="4572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3157200" y="45720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3742560" y="45720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DEC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0"/>
            <p:cNvSpPr/>
            <p:nvPr/>
          </p:nvSpPr>
          <p:spPr>
            <a:xfrm>
              <a:off x="4646160" y="45720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AL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1"/>
            <p:cNvSpPr/>
            <p:nvPr/>
          </p:nvSpPr>
          <p:spPr>
            <a:xfrm>
              <a:off x="5579280" y="457200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VEN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6453720" y="45720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3"/>
            <p:cNvSpPr/>
            <p:nvPr/>
          </p:nvSpPr>
          <p:spPr>
            <a:xfrm>
              <a:off x="7424640" y="457200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4"/>
          <p:cNvSpPr/>
          <p:nvPr/>
        </p:nvSpPr>
        <p:spPr>
          <a:xfrm>
            <a:off x="1557360" y="4876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49156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315684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3948120" y="4876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4793400" y="487692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71644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6662520" y="4876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760068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855000" y="48769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1523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pronombres OD, OI y reflexivos (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) se pon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rás del verbo en Imperativo, formando una sola palab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361600" y="990720"/>
            <a:ext cx="49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IMPERATIVO Y LOS PRO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68480" y="559440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evarme estas fotos?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pero luego devuélve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la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64520" y="21495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dl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allí est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930400" y="214956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sa, pasa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iént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194080" y="21495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se periód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44960" y="2754360"/>
            <a:ext cx="60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 unir un pronombre al Imperativo se producen algunas mod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851760" y="3124080"/>
            <a:ext cx="51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arece una tilde cuando la palabra se convierte en esdrúj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068480" y="35053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118240" y="3505320"/>
            <a:ext cx="17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ír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856080" y="4006800"/>
            <a:ext cx="387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ierde la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final delante del pronombr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1068120" y="44038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071080" y="44038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38480" y="4959360"/>
            <a:ext cx="82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hay dos pronombres, el orden es OI + OD. Cuando los dos pronombres son de tercera person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 convierten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882600" y="5594400"/>
            <a:ext cx="251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Quieres estos docum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o, dá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el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6444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17524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4" name="camera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831960" y="1676520"/>
            <a:ext cx="26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frecer cosas o para invit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63440" y="2017800"/>
            <a:ext cx="24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caf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34840" y="2695680"/>
            <a:ext cx="17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i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057320" y="3060720"/>
            <a:ext cx="46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ara llamar por teléfono al extranjer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primero el 00 y lu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l prefijo d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830880" y="3778200"/>
            <a:ext cx="41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órdenes y pedir que los demás hagan al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062000" y="413856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l Director, por fav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37360" y="5073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permi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061640" y="5425920"/>
            <a:ext cx="35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amar por teléfono desde aquí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claro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200760" y="99864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OS DEL 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063440" y="226548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n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so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062000" y="439884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or favor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ígal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que he llam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61280" y="4648320"/>
            <a:ext cx="32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arlos, guapo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yú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llevar 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9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3:29Z</dcterms:created>
  <dc:creator>USER</dc:creator>
  <dc:description/>
  <dc:language>en-US</dc:language>
  <cp:lastModifiedBy>Susana</cp:lastModifiedBy>
  <cp:lastPrinted>2007-06-19T14:16:16Z</cp:lastPrinted>
  <dcterms:modified xsi:type="dcterms:W3CDTF">2015-07-01T12:31:37Z</dcterms:modified>
  <cp:revision>77</cp:revision>
  <dc:subject/>
  <dc:title>Παρουσίαση του PowerPoint</dc:title>
</cp:coreProperties>
</file>